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905-3447-43EE-A763-AEBCFA78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5F8-007F-456F-B679-7F901A0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3D531-3842-4F81-8FFB-0AD4489D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EDF8D-DF8B-4437-A521-12D546DC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0797F-A503-4E2A-9ED0-DFFD969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55CA8-6E61-4292-B4B2-D9F32379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3ACC6-1DC5-4615-8F02-1BB72E5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67A62-5837-46DC-9FBD-369CED4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0C6DB-4054-4237-8B6F-EAF3C1A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9DB2-04F0-4824-8DB4-58E1EABC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3ADE7-55E0-43C2-A421-91E05AE0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4200C-8595-4872-BBC1-AC213B38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ACC-A093-43CA-B886-35ED24A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5DC69-8E86-49DA-B16F-1A27DDD6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F4A6E-9880-4512-9A78-E697D7F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475E9-8D2A-4F5C-AAE3-A2FABD1F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C86A6-1CA2-47C3-A879-77398FE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B811E-E598-4A9A-8329-9854B804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FDA64-BCEC-469E-BF42-FDA69A2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A231-DE9C-4AD2-BA21-F42375C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6D4DF-129B-4054-97E8-559E9D5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94DAC-C49B-47BF-8B63-810D6D57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B517-69B9-45FD-89F6-74C9FAD8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1D3-3A83-4FA9-8C7A-9B15328C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04321-6837-484E-AF69-8F6C05DD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F82E98-806A-4504-BC43-466331A8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241FBD-A123-47B7-88D5-872A44F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0D9EFE-0F32-44B6-94D1-4ABD5DED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2F044A-7AC4-4FBE-AC67-4099156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38FB85-F274-4282-A5C8-4EBC884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10601B-53AB-4F4C-936F-45BE0F49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6EB670-9585-4BAF-B1C0-C1AE07D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52F875-16CE-4657-93FC-29D229E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18C6EF-D126-41C7-9924-CA1D291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BA61-0CDA-4BE2-8FBB-FE48E452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5DA3C-0041-4D55-A431-BE97F3D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86CF6F-3C62-4576-AEBD-C1016C33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6C4EF8-0A4D-4CD4-AD45-6659230C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32B90-1CB8-49F3-B448-81DFA219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4E203-F5F3-4F43-9A0B-B0D22B2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FFEBA-F7DA-4F45-861A-6CBE763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DCD90-90BD-440A-AA04-FEFAA17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3B522-FD74-4746-849E-3303E88C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BCE35-8A18-4084-81B0-A871F69E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C8B8E-3276-47FC-86DE-F5DB605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D4A8-2A8B-4754-9E64-FBA17D90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10C1C-D9ED-4ADD-B4D5-6B9993F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90ABF-54C0-42B7-AB63-91CE5DF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8D055-938F-47E1-AD84-383FA539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67A70-73AD-426F-8407-E770D88F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2A5C0-52B5-459B-8277-129AF4A5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5C19E-AE95-4982-8340-6FE4F4AA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9FA63-4AE4-4149-9DAA-99926A10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C7009-F855-4B07-9634-3B20431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4BA1B-DBBB-4370-B3A6-9FB2040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993FC-A217-45A6-AF9B-CCA945E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9861-EE00-40EA-A79C-98F24894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ECFFA-3C20-4996-8F7F-32524B61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75B1F-3BCB-4E3A-9099-5119C88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D6DA8-4FDA-4832-A658-56159E5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AC374-4377-4757-B164-6FE3661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F36EF-812E-414A-A360-1DEF74E7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DE02D-F507-4531-B191-FBA7E7C0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8FDF4-1451-47B2-918C-72C66B49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AC708-F0D9-429F-BE24-9ABAE760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3D2FF-BA68-4726-9AEA-A25863F6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07010-C5C6-4B08-8712-E6335F8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53B2-6676-4134-8ECC-B957048F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A7E3D-07A4-45D1-8C42-8A4C5C23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EA34B-F20C-436D-A1AF-81547BBD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2487E-4CBF-418A-A632-37291B3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0270D-0A83-4445-9F49-62CEDEC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6FC04-63EA-411C-8450-B0D72B7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856D2-5D26-4B54-8960-A0DE1EC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31F34-B278-422B-9CDC-1BF4511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CE77D-60F7-431B-9D49-8DBB459C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9757D-7CDF-47CC-8D96-A6FCFB1B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5A7E-8F1C-41B3-9DA4-A7F6E7C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E37E-1760-4FEF-ADDC-C361CF96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1D3E-C1D9-4240-9DE5-44725B0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A5D-08E1-40ED-A54A-25379948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037E-3020-41CB-9A5D-FE4ED0E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602-C348-4184-8E7A-98DE5E50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BA21-744D-416D-8282-9E9587E1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E478-84F0-4857-8C14-7ED11B1C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A8E-2B6A-4608-8C80-3B2D441B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96E8-99C7-4E0D-83A7-A7DC60BA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A9ED-0082-47EB-AC29-39A88921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9DEC-3116-4720-887D-780C93E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E55E-5318-4DE9-AD14-7DF13DB8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2969-2EC1-4EBF-ACB2-DBEE2940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B44-E74F-4AE5-93A8-218A3AA3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8526-F50D-43E9-8CE1-8B2F1B5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F552-E4D0-4C84-8327-755F858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2908-C7D2-46E5-81EB-95B3968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4229-A026-425D-945A-B6C05D4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F1EA5-F091-44D6-BB24-D555D8B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1974-22BB-46DC-8009-031F7887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492F-C8BB-4EC1-8E6B-DDFD9DD6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11BC-9D7D-4CC7-89CA-A5477E1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C415-27C9-420E-928D-E1BCC61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13DF-F535-4A5F-BBF9-062C6B47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4C3-6347-4558-B6DA-846ADCE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F079-045F-49C1-A994-508F53C5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F80B-59E2-41F0-B5DD-1D4BBD94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51ACA-A414-47EB-9F94-8931AB63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48AB-E865-4914-A8F9-EA0CA21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5ED0-946F-4A18-8A99-9AF6B32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E8F1-4685-4D95-AF35-F911229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825E-982B-4B56-8ED8-511D8C2C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12E6-10DB-48F4-BF11-AE0FF563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6204-B9CA-4833-AB25-169DEA99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6B9D1-ACDD-4C73-885C-C0350199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CE2-9CA7-42F6-AB0E-398A511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54A4C-8DC9-4A9F-ABE2-8BB78ECD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FF563-4657-4542-A53B-02DDA45C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E7675-026D-440B-B3CE-BFC45205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052A2-BF0B-4EB6-A998-723271A7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2A6C4-4258-4C09-8A62-DECAA3CA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CA3A5-AD34-4FE2-B8D4-30211B8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9D591-C057-459C-B472-A2609C0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D25E8-818A-4919-A07B-C57F6908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77629A-FAFD-4F17-A955-DF5CACB5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C6C63-32F6-4176-AF8B-9ABC80EF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AAD-E5BB-40F1-9FE8-5D597584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858F8-CC1F-471D-ADB2-39BB7E61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4618-3926-4DCD-B361-8546736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8396-A45F-4799-A9B9-61ECFFD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E4B5-A649-43DC-9B84-91651AF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5D4C-BB19-4721-9451-52647F4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FD9A-78C1-4147-8AB7-2496775B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B189-84FD-4338-8F25-28F574B7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6FD18-FCCF-4FB9-A24B-C1A3004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A0AE-FAE3-4B35-A844-0E01C169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63B4F-FF1A-4C8E-99D6-C4A9D30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BE8-991E-42EF-90E1-D280D862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C552-9EE5-4BA8-BF55-F25ADD6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47EE8-8533-468E-8DFC-F4402972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0E8B-6BA4-4271-BF77-27FAE0FA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AB35-F84E-46F1-B342-0B9C1A3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9B218-B24B-49C6-B3D1-7B6AA23E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58EA-0B8B-421E-960A-0042FDBE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1717-9066-472D-88E4-0FAD61F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D8E7-F3B6-429B-8333-11C7E4A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B1EC-7AB5-42B3-917C-F4EE172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C458-9036-4866-84BC-22D9331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4C2-03FD-4945-AD7F-63BCAD7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D106-5D5E-499C-81EF-84FCB6D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BD11C-E7A0-49C2-B059-285218B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4BFC4-8A4D-456C-B8A8-E0B2728E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5B38-67AD-428E-BACE-9ADAA030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B183-03C2-4390-9523-C8D26722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98D74-D35A-4DFE-81CA-A2F25D5B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75252-1B0D-4E22-86A4-3E49844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28CFE-B984-47BF-A7AF-38F75F5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D2C89-B774-4E43-B5C2-550AF83B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6FAB3-D7EA-43FE-9E83-B4C994BA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9A1-DEFC-4947-BEE6-BF1B1D8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0D6AE-A2C4-45B7-947B-0959615B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CF260-80B0-467F-8F80-C44DF2B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2D320-FBAC-4F27-B1EB-57D95A8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83D78-7A09-401B-8C03-A75B620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7FA382-175C-4F59-AC91-8D2483C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76D18-C27B-4630-9C02-69953127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ADACE-F7E0-4133-B657-EDF4D09B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DA46B-F36A-4435-9C14-0564A77A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AB732-4277-450B-8988-27A8BC7E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DFB08-231D-41ED-9B4E-DCBD0C1D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7CE5-396D-46AC-A040-9E14C551D0C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1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3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5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88D-1706-471C-966C-DAF79D2914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EE7-5C5F-4736-915F-5A54DDF999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143F-6781-416E-9CE6-F9AEBCCC12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3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3BF7-A671-407A-9027-2DB4ACF00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8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B0F-107B-4DB2-BE1D-2C5846D54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F7EE-4640-4814-9997-0B7440EE427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1572-DEF8-4CA3-BAA9-DCC0203FA8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7F0-A805-42E3-A7E5-1D7CC60D97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BEC-3B6D-4021-A499-925C9EEE1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C0F3-1CDC-4D71-9758-FA2EFAF37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E00F-D063-4DB0-8F10-51A56A2F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71DA-4A3D-4D4E-884E-A0CAA005E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3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4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071-75A6-41DD-A7A0-5F1AF1BAEF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B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Rache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Greenber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3429000" cy="282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Cuar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cuarto. Es cuarto bell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3703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una sala. Es una lujos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829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una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tupen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40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omedor. Es un increib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22960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8" dur="2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7848720" cy="327816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-228600" y="20257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2438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edec"/>
                </a:solidFill>
                <a:latin typeface="Arial Black"/>
              </a:rPr>
              <a:t>Es un baño. Es rosa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a Piscina/B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Times New Roman"/>
              </a:rPr>
              <a:t>ñ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ra De Hidromasaj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 una piscina/banera de hidromasaje. Es una grand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229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 un jardin. Es fabulo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8229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 for watching my slide sh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18Z</dcterms:created>
  <dc:creator>rachel greenberg </dc:creator>
  <dc:description/>
  <dc:language>en-US</dc:language>
  <cp:lastModifiedBy>greenbergrac</cp:lastModifiedBy>
  <dcterms:modified xsi:type="dcterms:W3CDTF">2011-10-26T13:50:08Z</dcterms:modified>
  <cp:revision>6</cp:revision>
  <dc:subject/>
  <dc:title>La Mansion</dc:title>
</cp:coreProperties>
</file>